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273-30D0-47C3-8E6F-46DD2B85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E04-4431-4468-B49B-940D089E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006-EB3E-4D6D-B9A7-FDE148CF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934-0175-4BD7-8577-2C4D51F5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368-FA1E-403A-A1EE-AE94E62D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4DF-F9A1-43A8-B78B-1AE19415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296-0235-4C38-9539-FAE61C58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681-3A55-4C28-947D-1D00042F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961-456A-487D-B10E-13C01206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72D-FD52-4271-BC3A-683ADAB9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90E-EB17-47BD-9E30-C1DD2EAC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525-56D9-49E9-B389-AE6F429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D684-AA55-48EB-B84B-CC4F88F1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igh_accuracy_Low_precision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en.wikipedia.org/wiki/Image:High_precision_Low_accuracy.sv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toine.frostburg.edu/cgi-bin/senese/tutorials/sigfig/index.cgi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ision and accuracy in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accuracy, but not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precision but not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igh accuracy, but low precis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High precision, but low accurac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9718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60199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219320" y="457200"/>
            <a:ext cx="2438280" cy="6019920"/>
            <a:chOff x="1219320" y="457200"/>
            <a:chExt cx="2438280" cy="6019920"/>
          </a:xfrm>
        </p:grpSpPr>
        <p:grpSp>
          <p:nvGrpSpPr>
            <p:cNvPr id="254" name=""/>
            <p:cNvGrpSpPr/>
            <p:nvPr/>
          </p:nvGrpSpPr>
          <p:grpSpPr>
            <a:xfrm>
              <a:off x="1219320" y="457200"/>
              <a:ext cx="2438280" cy="6019920"/>
              <a:chOff x="1219320" y="457200"/>
              <a:chExt cx="2438280" cy="6019920"/>
            </a:xfrm>
          </p:grpSpPr>
          <p:sp>
            <p:nvSpPr>
              <p:cNvPr id="255" name=""/>
              <p:cNvSpPr/>
              <p:nvPr/>
            </p:nvSpPr>
            <p:spPr>
              <a:xfrm>
                <a:off x="1219320" y="457200"/>
                <a:ext cx="0" cy="601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57600" y="457200"/>
                <a:ext cx="0" cy="601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2599920" y="703800"/>
                <a:ext cx="440640" cy="5618520"/>
                <a:chOff x="2599920" y="703800"/>
                <a:chExt cx="440640" cy="56185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599920" y="703800"/>
                  <a:ext cx="0" cy="561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599920" y="607536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599920" y="501048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599920" y="397620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599920" y="291096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599920" y="183060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599920" y="703800"/>
                  <a:ext cx="44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2605680" y="3085920"/>
                  <a:ext cx="214200" cy="673920"/>
                  <a:chOff x="2605680" y="3085920"/>
                  <a:chExt cx="214200" cy="6739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2614320" y="35384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605680" y="375984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608560" y="30859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614320" y="33120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2615400" y="4135320"/>
                  <a:ext cx="214200" cy="673920"/>
                  <a:chOff x="2615400" y="4135320"/>
                  <a:chExt cx="214200" cy="67392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624040" y="45878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615400" y="480924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618280" y="41353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624040" y="43614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2615400" y="2020680"/>
                  <a:ext cx="214200" cy="673920"/>
                  <a:chOff x="2615400" y="2020680"/>
                  <a:chExt cx="214200" cy="6739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624040" y="24732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615400" y="269460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618280" y="202068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624040" y="224676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2614320" y="5200560"/>
                  <a:ext cx="214200" cy="673920"/>
                  <a:chOff x="2614320" y="5200560"/>
                  <a:chExt cx="214200" cy="6739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2622960" y="565308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614320" y="587448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617200" y="520056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22960" y="54266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2604600" y="919800"/>
                  <a:ext cx="214200" cy="673920"/>
                  <a:chOff x="2604600" y="919800"/>
                  <a:chExt cx="214200" cy="673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2613240" y="137232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604600" y="15937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607480" y="91980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613240" y="114588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1902240" y="703800"/>
                <a:ext cx="440280" cy="5618520"/>
                <a:chOff x="1902240" y="703800"/>
                <a:chExt cx="440280" cy="5618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342520" y="703800"/>
                  <a:ext cx="0" cy="561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1902240" y="607536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1902240" y="501048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1902240" y="397620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1902240" y="291096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1902240" y="183060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1902240" y="703800"/>
                  <a:ext cx="44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2122560" y="3085920"/>
                  <a:ext cx="214200" cy="673920"/>
                  <a:chOff x="2122560" y="3085920"/>
                  <a:chExt cx="214200" cy="6739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>
                    <a:off x="2122560" y="35384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>
                    <a:off x="2131560" y="375984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>
                    <a:off x="2128680" y="30859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2122560" y="33120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112840" y="4135320"/>
                  <a:ext cx="214200" cy="673920"/>
                  <a:chOff x="2112840" y="4135320"/>
                  <a:chExt cx="214200" cy="6739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>
                    <a:off x="2112840" y="45878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2121840" y="480924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>
                    <a:off x="2118960" y="41353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2112840" y="43614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112840" y="2020680"/>
                  <a:ext cx="214200" cy="673920"/>
                  <a:chOff x="2112840" y="2020680"/>
                  <a:chExt cx="214200" cy="6739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H="1">
                    <a:off x="2112840" y="247320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2121840" y="269460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2118960" y="202068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2112840" y="224676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2113920" y="5200560"/>
                  <a:ext cx="214200" cy="673920"/>
                  <a:chOff x="2113920" y="5200560"/>
                  <a:chExt cx="214200" cy="6739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H="1">
                    <a:off x="2113920" y="565308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2122920" y="587448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2120040" y="520056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2113920" y="542664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2123640" y="919800"/>
                  <a:ext cx="214200" cy="673920"/>
                  <a:chOff x="2123640" y="919800"/>
                  <a:chExt cx="214200" cy="6739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flipH="1">
                    <a:off x="2123640" y="137232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2132640" y="159372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2129760" y="919800"/>
                    <a:ext cx="20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2123640" y="1145880"/>
                    <a:ext cx="20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3" name=""/>
            <p:cNvSpPr/>
            <p:nvPr/>
          </p:nvSpPr>
          <p:spPr>
            <a:xfrm>
              <a:off x="2981880" y="503280"/>
              <a:ext cx="6285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1880" y="1614600"/>
              <a:ext cx="5950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1880" y="2695320"/>
              <a:ext cx="5950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1320" y="3744720"/>
              <a:ext cx="5580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93760" y="4794480"/>
              <a:ext cx="5950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11040" y="5859720"/>
              <a:ext cx="6235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362320" y="1828800"/>
            <a:ext cx="255600" cy="4054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876920" y="533520"/>
            <a:ext cx="2590200" cy="5790600"/>
            <a:chOff x="4876920" y="533520"/>
            <a:chExt cx="2590200" cy="5790600"/>
          </a:xfrm>
        </p:grpSpPr>
        <p:grpSp>
          <p:nvGrpSpPr>
            <p:cNvPr id="331" name=""/>
            <p:cNvGrpSpPr/>
            <p:nvPr/>
          </p:nvGrpSpPr>
          <p:grpSpPr>
            <a:xfrm>
              <a:off x="4876920" y="533520"/>
              <a:ext cx="2590200" cy="5790600"/>
              <a:chOff x="4876920" y="533520"/>
              <a:chExt cx="2590200" cy="57906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4876920" y="533520"/>
                <a:ext cx="2590200" cy="5790600"/>
                <a:chOff x="4876920" y="533520"/>
                <a:chExt cx="2590200" cy="57906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876920" y="533520"/>
                  <a:ext cx="0" cy="579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467120" y="533520"/>
                  <a:ext cx="0" cy="579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6343560" y="770760"/>
                  <a:ext cx="468000" cy="5404320"/>
                  <a:chOff x="6343560" y="770760"/>
                  <a:chExt cx="468000" cy="540432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6343560" y="770760"/>
                    <a:ext cx="0" cy="540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343560" y="593748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343560" y="491292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343560" y="391824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343560" y="289368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343560" y="185436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343560" y="77076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343560" y="544752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359040" y="442296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359040" y="237420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359040" y="339876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359040" y="130500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6343560" y="859680"/>
                    <a:ext cx="93240" cy="341280"/>
                    <a:chOff x="6343560" y="859680"/>
                    <a:chExt cx="93240" cy="34128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6343560" y="85968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6343560" y="97812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6359040" y="1082160"/>
                      <a:ext cx="77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343560" y="120096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3" name=""/>
                  <p:cNvSpPr/>
                  <p:nvPr/>
                </p:nvSpPr>
                <p:spPr>
                  <a:xfrm>
                    <a:off x="6359040" y="14090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359040" y="15278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359040" y="163188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359040" y="17506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359040" y="19436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359040" y="20624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359040" y="216648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359040" y="22849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359040" y="24631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359040" y="25819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359040" y="268596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359040" y="28047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359040" y="29829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359040" y="31017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359040" y="320544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359040" y="33242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359040" y="34876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59040" y="3606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359040" y="371052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359040" y="38293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359040" y="40075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359040" y="41259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359040" y="423000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359040" y="43340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359040" y="4497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359040" y="46011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359040" y="471996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359040" y="48240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359040" y="50022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359040" y="51210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359040" y="522504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359040" y="5343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359040" y="55368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359040" y="5640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359040" y="574452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359040" y="58485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5563080" y="770760"/>
                  <a:ext cx="468000" cy="5404320"/>
                  <a:chOff x="5563080" y="770760"/>
                  <a:chExt cx="468000" cy="54043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031080" y="770760"/>
                    <a:ext cx="0" cy="540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>
                    <a:off x="5563080" y="593748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5563080" y="491292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5563080" y="391824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5563080" y="289368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5563080" y="185436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5563080" y="770760"/>
                    <a:ext cx="46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5812920" y="544752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5797440" y="442296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>
                    <a:off x="5797440" y="237420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5797440" y="339876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>
                    <a:off x="5797440" y="1305000"/>
                    <a:ext cx="218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937840" y="859680"/>
                    <a:ext cx="93240" cy="341280"/>
                    <a:chOff x="5937840" y="859680"/>
                    <a:chExt cx="93240" cy="34128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flipH="1">
                      <a:off x="5937840" y="85968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H="1">
                      <a:off x="5937840" y="97812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>
                      <a:off x="5937840" y="1082160"/>
                      <a:ext cx="77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>
                      <a:off x="5937840" y="1200960"/>
                      <a:ext cx="93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7" name=""/>
                  <p:cNvSpPr/>
                  <p:nvPr/>
                </p:nvSpPr>
                <p:spPr>
                  <a:xfrm flipH="1">
                    <a:off x="5922000" y="14090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5922000" y="15278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5937840" y="163188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5922000" y="17506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5922000" y="19436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5922000" y="20624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5937840" y="216648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5922000" y="22849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5922000" y="24631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5922000" y="25819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5937840" y="268596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5922000" y="28047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5922000" y="29829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>
                    <a:off x="5922000" y="31017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5937840" y="320544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5922000" y="33242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>
                    <a:off x="5922000" y="34876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5922000" y="3606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>
                    <a:off x="5937840" y="371052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>
                    <a:off x="5922000" y="38293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>
                    <a:off x="5922000" y="400752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>
                    <a:off x="5922000" y="41259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>
                    <a:off x="5937840" y="423000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>
                    <a:off x="5922000" y="433404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>
                    <a:off x="5922000" y="4497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>
                    <a:off x="5922000" y="46011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5937840" y="471996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5922000" y="48240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5922000" y="50022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>
                    <a:off x="5922000" y="51210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5937840" y="522504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5922000" y="5343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>
                    <a:off x="5922000" y="553680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5922000" y="564048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5937840" y="5744520"/>
                    <a:ext cx="77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5922000" y="5848560"/>
                    <a:ext cx="93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>
                <a:off x="6749280" y="5730120"/>
                <a:ext cx="49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02480" y="4705560"/>
                <a:ext cx="63972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17960" y="3710880"/>
                <a:ext cx="62388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33440" y="2701080"/>
                <a:ext cx="59292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33440" y="1647000"/>
                <a:ext cx="65520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33440" y="577800"/>
                <a:ext cx="67068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6036480" y="2367360"/>
              <a:ext cx="311760" cy="376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antoine.frostburg.edu/cgi-bin/senese/tutorials/sigfig/index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UNTING SIG. DI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VERYONE SHOULD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Counting Significant Figures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zero inte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452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ding z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452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tive z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452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iling z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ing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vila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ZERO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LWAYS SIGNIFI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336 g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3 mL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cm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922 cal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PTIVE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NON-ZERO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LWAYS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5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kg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LEADING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RONT OF NON-ZERO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NEVER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counting at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NZERO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0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235 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0.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m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0.0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631 mm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TRAILING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AFTER NON-ZERO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GNIFICANT IF THERE IS A DECIMAL POINT IN TH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,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,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000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L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.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FINITELY SIGNIFIC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NEVER DETERMINE SIG. DIGS. IN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heets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pen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6 students in my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QUIVILA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S THAT ARE EQUAL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g = 1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0 meters = 100.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INITE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T USED TO DETERMINE SIG. DIGS. I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2238480"/>
            <a:ext cx="5448240" cy="461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04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 each experiment.  Indicate whether the diagram illustrates precision, accuracy, both, or n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86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7543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 in Significant digi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3160" y="609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number of significant figures for each of the fol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 student’s extraction procedure on tea yields 0.0105 g of caffe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 chemist records a mass of 0.050080 g in an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n an experiment, a span of time is determined to be 8.050 x 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st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orksheet is divided into several parts.  Your instructor will assign certain sections as home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ing significant dig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3.977 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4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:_Nonzero integers are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0.0033 cm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2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ule:_Leading zeros are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10045 ca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5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:_Captive zeros are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14.0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3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:_Trailing zeros are significant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a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 1200 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2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:_Trailing zeros are not significant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t a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53 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1      2.60cm      2.70cm       2.7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2      2.72cm      2.69cm       2.7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3      2.65cm      2.71cm       2.6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  2.66cm      2.70cm       2.71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 is (a.) Student 2 is both precise and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ture of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- quantitative observation consisting of 2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Part 2 - scale (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-39924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ule</a:t>
            </a:r>
            <a:r>
              <a:rPr b="0" lang="en-US" sz="3200" spc="-1" strike="noStrike">
                <a:solidFill>
                  <a:srgbClr val="000000"/>
                </a:solidFill>
                <a:latin typeface="TestGe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rt 1:  Rules for Significant Figures in Mathematical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84360" y="236052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5043600"/>
            <a:ext cx="3767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92560" y="5043600"/>
            <a:ext cx="3902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Addition and Sub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sig figs in the answer equals the number of decimal places in the least precise measurement (one with least number of decimal places to the right of the decimal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6.8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11.934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18.734 cm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18.7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m (3 sig fig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ignificant Figures in Mathematical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84360" y="2360520"/>
            <a:ext cx="7559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74640" y="53182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5043600"/>
            <a:ext cx="3311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60840" y="55468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89680" y="5043600"/>
            <a:ext cx="2835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35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f67ff"/>
                </a:solidFill>
                <a:latin typeface="Arial"/>
              </a:rPr>
              <a:t>Multiplication and Di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sig digits in the answer are equal to the measurement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sig digits used in the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38 c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2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  =  12.76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 sig fi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92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=  1.6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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2 sig fi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3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f67ff"/>
                </a:solidFill>
                <a:uFillTx/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af67ff"/>
                </a:solidFill>
                <a:uFillTx/>
                <a:latin typeface="Arial"/>
              </a:rPr>
              <a:t>UNITS ON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in t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erived from units in t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dding or subtrac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unit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in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li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gives a square measure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 cm x 2 cm = 4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f67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bic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 cm x 2 cm x 2 cm = 8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unli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ts means tha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oth un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 in the answer separated by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.4 L    x     1.00 atm    =    22.4 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it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nc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unit---------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2 cm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 cm  =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ivid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un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its all unit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 in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.0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g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 2.0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22.4 L)(1.00 at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.0891L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•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73 K)(1.00 mol)           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MIXED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a calculation involves addition/subtraction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ation/division.  Then 2 roundings must take place because there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different r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5.0 mL – 15.0 m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=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irst : 25.0 mL – 15.0 mL = 10.0 mL</a:t>
            </a:r>
            <a:r>
              <a:rPr b="1" i="1" lang="en-US" sz="2800" spc="-1" strike="noStrike">
                <a:solidFill>
                  <a:srgbClr val="ff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n :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0.0m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=     </a:t>
            </a:r>
            <a:r>
              <a:rPr b="1" lang="en-US" sz="3600" spc="-1" strike="noStrike" u="sng">
                <a:solidFill>
                  <a:srgbClr val="00cc00"/>
                </a:solidFill>
                <a:uFillTx/>
                <a:latin typeface="Arial"/>
              </a:rPr>
              <a:t>5 (no uni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uracy and Precision i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1480" y="1842840"/>
            <a:ext cx="7994880" cy="31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urac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s to the agreement of a particular value or measurement with th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or accepted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7320" indent="-427320"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s to how close the values or measurements ar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PPLYING ROUND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git to the right of the last sig. digit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lt; 5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the last sig. dig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git to the right of the last sig. digit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gt; than or = to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ou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5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gits to the right of the last sig. digit ar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only look at the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o not change the last sig. dig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4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Arial"/>
              </a:rPr>
              <a:t>More Rounding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4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4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.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.4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ndred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.45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ousand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. Digit W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( 3 sig. dig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0.02443 kcal  =  0.0244 k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95.56 g  =  95.6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57.048 m = 57.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12.17 C = 12.2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1764.9 ml = 176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8.859 km = 8.86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45,560 mm = 45,60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. Digit WS III &amp; IV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43.13g  =  43.1g  (te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 155 m  = 160 m  ( t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) 8.859 km  = 8.86 km  (hundred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) 124.78 g  = 125 g  (ones)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.14 kg + 8.2 kg  =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75.3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.3 cm  -  1.655 cm  =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85.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2 cm  -  7.11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.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2g  -  0.02g m  =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.0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3.2 mL  +  627.443 mL  =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480.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2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+  18.5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=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0.7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certainty in Measur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436840"/>
            <a:ext cx="765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igit that must b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call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erta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ways has some degree of uncertainty.  When you measure any quantity, the last digit is estimated .  In science, you MUST always estimate the last digit.  This is called reading to the 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precision of the instrument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READING AN INSTRUMENT CORRECTL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value of the markings on the instr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orrectly to that m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estimate the next number.  If a measurement falls right on a marking, you MUST estimate the next digit as “ZER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!!!!! Your measurement MUST always include an estimated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graduated cylind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ead the bottom of the meniscus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 mL graduated cyl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99172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685800" y="4876920"/>
            <a:ext cx="3429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Aga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 mL graduated cylin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28600" y="4495680"/>
            <a:ext cx="44197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is the green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1752480"/>
            <a:ext cx="8001000" cy="4267440"/>
            <a:chOff x="533520" y="1752480"/>
            <a:chExt cx="8001000" cy="426744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33520" y="1752480"/>
              <a:ext cx="800100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 txBox="1"/>
            <p:nvPr/>
          </p:nvSpPr>
          <p:spPr>
            <a:xfrm>
              <a:off x="533520" y="1752480"/>
              <a:ext cx="800100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3520" y="2133720"/>
            <a:ext cx="6553080" cy="0"/>
          </a:xfrm>
          <a:prstGeom prst="line">
            <a:avLst/>
          </a:prstGeom>
          <a:ln w="101520">
            <a:solidFill>
              <a:srgbClr val="007a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162560" y="1981080"/>
            <a:ext cx="7596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143000" y="762120"/>
            <a:ext cx="7390800" cy="5309640"/>
            <a:chOff x="1143000" y="762120"/>
            <a:chExt cx="7390800" cy="5309640"/>
          </a:xfrm>
        </p:grpSpPr>
        <p:grpSp>
          <p:nvGrpSpPr>
            <p:cNvPr id="72" name=""/>
            <p:cNvGrpSpPr/>
            <p:nvPr/>
          </p:nvGrpSpPr>
          <p:grpSpPr>
            <a:xfrm>
              <a:off x="1301760" y="764640"/>
              <a:ext cx="7232040" cy="4515480"/>
              <a:chOff x="1301760" y="764640"/>
              <a:chExt cx="7232040" cy="45154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1305360" y="764640"/>
                <a:ext cx="7228440" cy="254160"/>
                <a:chOff x="1305360" y="764640"/>
                <a:chExt cx="7228440" cy="2541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54872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45880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379320" y="764640"/>
                  <a:ext cx="67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25844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157720" y="764640"/>
                  <a:ext cx="67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46920" y="764640"/>
                  <a:ext cx="67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94692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857000" y="764640"/>
                  <a:ext cx="67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1305360" y="764640"/>
                  <a:ext cx="231840" cy="228960"/>
                  <a:chOff x="1305360" y="764640"/>
                  <a:chExt cx="231840" cy="22896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1305360" y="764640"/>
                    <a:ext cx="11592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1421280" y="764640"/>
                    <a:ext cx="11592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2225880" y="764640"/>
                  <a:ext cx="232200" cy="228960"/>
                  <a:chOff x="2225880" y="764640"/>
                  <a:chExt cx="232200" cy="22896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222588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H="1">
                    <a:off x="234180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3135960" y="764640"/>
                  <a:ext cx="232200" cy="228960"/>
                  <a:chOff x="3135960" y="764640"/>
                  <a:chExt cx="232200" cy="2289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3596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H="1">
                    <a:off x="325188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4025160" y="764640"/>
                  <a:ext cx="233280" cy="228960"/>
                  <a:chOff x="4025160" y="764640"/>
                  <a:chExt cx="233280" cy="22896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4025160" y="764640"/>
                    <a:ext cx="11664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4141800" y="764640"/>
                    <a:ext cx="11664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7623720" y="764640"/>
                  <a:ext cx="232200" cy="228960"/>
                  <a:chOff x="7623720" y="764640"/>
                  <a:chExt cx="232200" cy="2289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762372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7739640" y="764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6713640" y="789480"/>
                  <a:ext cx="232200" cy="229320"/>
                  <a:chOff x="6713640" y="789480"/>
                  <a:chExt cx="232200" cy="2293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6713640" y="789480"/>
                    <a:ext cx="116280" cy="22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>
                    <a:off x="6829560" y="789480"/>
                    <a:ext cx="116280" cy="22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5814360" y="764640"/>
                  <a:ext cx="231840" cy="228960"/>
                  <a:chOff x="5814360" y="764640"/>
                  <a:chExt cx="231840" cy="2289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814360" y="764640"/>
                    <a:ext cx="11592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5930280" y="764640"/>
                    <a:ext cx="11592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4931640" y="789480"/>
                  <a:ext cx="233280" cy="229320"/>
                  <a:chOff x="4931640" y="789480"/>
                  <a:chExt cx="233280" cy="2293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931640" y="789480"/>
                    <a:ext cx="116640" cy="22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5048280" y="789480"/>
                    <a:ext cx="116640" cy="22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1301760" y="2927880"/>
                <a:ext cx="7181640" cy="261720"/>
                <a:chOff x="1301760" y="2927880"/>
                <a:chExt cx="7181640" cy="2617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6687360" y="2960640"/>
                  <a:ext cx="232200" cy="228960"/>
                  <a:chOff x="6687360" y="2960640"/>
                  <a:chExt cx="232200" cy="228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6687360" y="2960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6803280" y="2960640"/>
                    <a:ext cx="11628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545120" y="2927880"/>
                  <a:ext cx="155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33600" y="2927880"/>
                  <a:ext cx="155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133600" y="2927880"/>
                  <a:ext cx="155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927840" y="2927880"/>
                  <a:ext cx="155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9096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20688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9024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500616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0176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1417680" y="2927880"/>
                  <a:ext cx="115920" cy="22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301760" y="4719240"/>
                <a:ext cx="7197480" cy="560880"/>
                <a:chOff x="1301760" y="4719240"/>
                <a:chExt cx="7197480" cy="56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837480" y="4744800"/>
                  <a:ext cx="0" cy="53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747560" y="4744800"/>
                  <a:ext cx="0" cy="53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92880" y="4719240"/>
                  <a:ext cx="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281720" y="4719240"/>
                  <a:ext cx="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1301760" y="4719240"/>
                  <a:ext cx="7197480" cy="560520"/>
                  <a:chOff x="1301760" y="4719240"/>
                  <a:chExt cx="7197480" cy="5605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1301760" y="4719240"/>
                    <a:ext cx="7197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407240" y="4719240"/>
                    <a:ext cx="0" cy="53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2349360" y="4744800"/>
                    <a:ext cx="0" cy="53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862640" y="4719240"/>
                    <a:ext cx="0" cy="35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481400" y="4719240"/>
                    <a:ext cx="0" cy="20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576800" y="4719240"/>
                    <a:ext cx="0" cy="20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672200" y="4719240"/>
                    <a:ext cx="0" cy="20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767240" y="4719240"/>
                    <a:ext cx="0" cy="20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576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0530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14812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24352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2423160" y="4744800"/>
                  <a:ext cx="836280" cy="534960"/>
                  <a:chOff x="2423160" y="4744800"/>
                  <a:chExt cx="836280" cy="5349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259440" y="4744800"/>
                    <a:ext cx="0" cy="53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793600" y="4744800"/>
                    <a:ext cx="0" cy="35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42316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5182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6136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7090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8782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9736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0690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16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3333600" y="4744800"/>
                  <a:ext cx="815040" cy="534960"/>
                  <a:chOff x="3333600" y="4744800"/>
                  <a:chExt cx="815040" cy="5349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148640" y="4744800"/>
                    <a:ext cx="0" cy="534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704040" y="4744800"/>
                    <a:ext cx="0" cy="35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3336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428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352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36190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7782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8732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968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406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233600" y="4719240"/>
                  <a:ext cx="815040" cy="535320"/>
                  <a:chOff x="4233600" y="4719240"/>
                  <a:chExt cx="815040" cy="53532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5048640" y="4719240"/>
                    <a:ext cx="0" cy="53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604040" y="4744800"/>
                    <a:ext cx="0" cy="35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2336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328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42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5194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67820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7732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868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964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5111640" y="4719240"/>
                  <a:ext cx="826200" cy="535320"/>
                  <a:chOff x="5111640" y="4719240"/>
                  <a:chExt cx="826200" cy="535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5937840" y="4719240"/>
                    <a:ext cx="0" cy="53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471640" y="4744800"/>
                    <a:ext cx="0" cy="356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1116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066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53020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39748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5670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6624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7578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853240" y="4744800"/>
                    <a:ext cx="0" cy="20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0220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11784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2128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079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774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5725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6682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7633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9112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0704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1020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971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8325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2756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0233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11836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3666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617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5748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652520" y="474480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02960" y="4719240"/>
                  <a:ext cx="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1154160" y="762120"/>
              <a:ext cx="7007400" cy="1026360"/>
              <a:chOff x="1154160" y="762120"/>
              <a:chExt cx="7007400" cy="1026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154160" y="764640"/>
                <a:ext cx="561600" cy="9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92600" y="764640"/>
                <a:ext cx="701640" cy="9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581440" y="762120"/>
                <a:ext cx="692640" cy="9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07720" y="764640"/>
                <a:ext cx="727560" cy="9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92240" y="764640"/>
                <a:ext cx="691560" cy="9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04120" y="762120"/>
                <a:ext cx="743400" cy="9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7200" y="764640"/>
                <a:ext cx="76500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96560" y="762120"/>
                <a:ext cx="765000" cy="93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43000" y="2900520"/>
              <a:ext cx="6139080" cy="1051920"/>
              <a:chOff x="1143000" y="2900520"/>
              <a:chExt cx="6139080" cy="1051920"/>
            </a:xfrm>
          </p:grpSpPr>
          <p:sp>
            <p:nvSpPr>
              <p:cNvPr id="213" name=""/>
              <p:cNvSpPr/>
              <p:nvPr/>
            </p:nvSpPr>
            <p:spPr>
              <a:xfrm>
                <a:off x="1143000" y="2900520"/>
                <a:ext cx="645120" cy="10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52920" y="2928600"/>
                <a:ext cx="8038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10880" y="2900520"/>
                <a:ext cx="873360" cy="10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92880" y="2928600"/>
                <a:ext cx="8892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145880" y="5076000"/>
              <a:ext cx="570240" cy="9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70000" y="5087520"/>
              <a:ext cx="55152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66760" y="5093280"/>
              <a:ext cx="6192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3600" y="5076000"/>
              <a:ext cx="5511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74680" y="5076000"/>
              <a:ext cx="539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62800" y="5076000"/>
              <a:ext cx="591840" cy="9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76480" y="5087520"/>
              <a:ext cx="6206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6120" y="5087520"/>
              <a:ext cx="654120" cy="9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562720" y="380880"/>
            <a:ext cx="693360" cy="1080720"/>
            <a:chOff x="5562720" y="380880"/>
            <a:chExt cx="693360" cy="1080720"/>
          </a:xfrm>
        </p:grpSpPr>
        <p:sp>
          <p:nvSpPr>
            <p:cNvPr id="226" name=""/>
            <p:cNvSpPr/>
            <p:nvPr/>
          </p:nvSpPr>
          <p:spPr>
            <a:xfrm>
              <a:off x="5695560" y="71028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95560" y="710280"/>
              <a:ext cx="37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960" y="71028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451800"/>
              <a:ext cx="64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02800" y="45180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62720" y="397440"/>
              <a:ext cx="0" cy="10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2720" y="144396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2720" y="380880"/>
              <a:ext cx="68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47800" y="38088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69960" y="1461600"/>
              <a:ext cx="1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666880" y="2514600"/>
            <a:ext cx="938160" cy="1395000"/>
            <a:chOff x="2666880" y="2514600"/>
            <a:chExt cx="938160" cy="1395000"/>
          </a:xfrm>
        </p:grpSpPr>
        <p:sp>
          <p:nvSpPr>
            <p:cNvPr id="237" name=""/>
            <p:cNvSpPr/>
            <p:nvPr/>
          </p:nvSpPr>
          <p:spPr>
            <a:xfrm>
              <a:off x="2666880" y="2597040"/>
              <a:ext cx="90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69040" y="2597040"/>
              <a:ext cx="0" cy="13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822400" y="2847240"/>
              <a:ext cx="0" cy="10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22400" y="2847600"/>
              <a:ext cx="58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03080" y="2847600"/>
              <a:ext cx="0" cy="10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2514600"/>
              <a:ext cx="0" cy="13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6880" y="390960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03080" y="3892680"/>
              <a:ext cx="20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66880" y="251460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05040" y="2514600"/>
              <a:ext cx="0" cy="13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08280" y="4332240"/>
            <a:ext cx="923760" cy="454680"/>
            <a:chOff x="3608280" y="4332240"/>
            <a:chExt cx="923760" cy="454680"/>
          </a:xfrm>
        </p:grpSpPr>
        <p:sp>
          <p:nvSpPr>
            <p:cNvPr id="248" name=""/>
            <p:cNvSpPr/>
            <p:nvPr/>
          </p:nvSpPr>
          <p:spPr>
            <a:xfrm>
              <a:off x="3609360" y="4332240"/>
              <a:ext cx="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200" y="436356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608280" y="4332240"/>
              <a:ext cx="923760" cy="454680"/>
              <a:chOff x="3608280" y="4332240"/>
              <a:chExt cx="923760" cy="454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609360" y="4332240"/>
                <a:ext cx="9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3945600" y="4217760"/>
                <a:ext cx="231840" cy="906480"/>
              </a:xfrm>
              <a:custGeom>
                <a:avLst/>
                <a:gdLst>
                  <a:gd name="textAreaLeft" fmla="*/ 148320 w 231840"/>
                  <a:gd name="textAreaRight" fmla="*/ 232200 w 231840"/>
                  <a:gd name="textAreaTop" fmla="*/ 23400 h 906480"/>
                  <a:gd name="textAreaBottom" fmla="*/ 883080 h 90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3:04:05Z</dcterms:created>
  <dc:creator>CFISD</dc:creator>
  <dc:description/>
  <dc:language>en-US</dc:language>
  <cp:lastModifiedBy>CFISD</cp:lastModifiedBy>
  <dcterms:modified xsi:type="dcterms:W3CDTF">2009-08-28T21:11:10Z</dcterms:modified>
  <cp:revision>70</cp:revision>
  <dc:subject/>
  <dc:title>SIG. DIGS.</dc:title>
</cp:coreProperties>
</file>